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A9E-6ADD-4249-8FFA-4327669C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D65-FF4E-435A-A0D7-DC5A16E1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A9B-B568-4E48-A406-25F7D071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005-775D-4A6F-9C96-CBCD8547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A60E-D36D-43A1-B1D6-FB555C6F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EEEE-2070-4F38-BD86-95C35587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7C27-5336-4289-8D58-81A443DC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BE40-AA26-4C4D-8C49-80885F38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69B2-C8AE-4111-969C-34B9E27A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7B90-161E-4001-9CE6-D87FE9F8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EAAA-74C6-47C0-8E73-6F0C6AB7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093-0BF4-4736-AED0-7A3EF0AA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505C-CF31-4969-B0DE-AF1A8429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E882-FB28-4374-BDA4-A5BA7828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1F1B-B7B4-4EB0-89D7-14BE4B5E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AC37-02DA-4AA3-ADEC-6C5041C1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421B-0762-4B34-929B-A407ECC7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28F7-D62E-4815-A9E4-8C6FC19E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7186F-3FA9-4201-92D0-3BCC8C61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629B-6BA2-480B-9869-459473AB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CE03-32DE-4844-BA3E-8BE82673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4DD2-3E02-4463-A860-5F135052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8BE-2393-43A6-94B4-B6331413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5B2D-4923-4BB5-92FE-16CF8B9C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AD7E-3101-4014-A1A8-3D1CC9EF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50F06-08E5-4796-A699-4DEA6108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401D-291A-43CE-AE82-FA240056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5C7F-72E3-473A-B0D2-CBA39159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2DD6-0D16-4851-867D-16F317E7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F395-9449-4ABF-8A0F-CF1DBC26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D81AE-6BEB-4E9D-BB24-828D4516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E923D-4D68-4EA3-A146-175A4C50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42922-1926-4E71-971A-92B7F287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F72-CAA6-46E5-A690-566EFEA7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869AF-1323-4B5C-809C-6FA6573E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3E02-BEE5-4FE5-93D0-36F38527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63888-C688-4F86-A14A-7D1FAB3E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5EBB-0AF6-4EF1-BF3A-A378782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9E3B1-21FE-484B-90D9-F35EBF97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E61B6-F5CC-42AC-A703-468D6374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D1008-CA20-4AAD-ABE8-D70293BD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71B0-8733-458F-981F-373445CC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C3FE0-EA2D-4742-8C7E-A09C989D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829F9-6EAF-4150-AFBB-5E9477EE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B8B-9D95-485F-AAEC-D6AFA3D8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EDE68-3FA2-4B30-B6D3-13221869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C1D8D-DDD2-4039-AD50-3D78011A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E3A9-9EA2-41DB-BDC6-7D1FCD12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A0130-971C-40BF-B345-2C620414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EC3EA-5868-4B6D-835F-DAA23421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7BCB8-ABE4-4EFE-A461-6058BD2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D8712-C64C-445B-B30C-F3F59302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C161E-3AF0-486E-972E-CC948439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23B84-231E-457A-BD80-5B5D384F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613D6-BBE4-43FB-A63B-BF1C5D9F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8B0-CDF8-433B-97B3-C1E2C93F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D873-37E0-4587-B4EC-1D676BF8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836E2-2530-427A-84CC-DEAB7B42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3AD34-E471-416A-BED1-9A92C148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D0700-2E94-472D-8209-14F45C53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0FBE1-4F4C-41E4-A86B-C9B0BEA1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F185-C4D6-41EE-8ACB-2FCD275B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27FBF-1A3C-4A09-9C30-927DE348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A5AD8-9886-473C-858F-95DF1B1B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E20CF-88E6-44EC-88B0-E70EAE0B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0E028-4A07-4C84-B21F-B400BF04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219-1D86-4C61-A2F3-F06F8EB5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03914-DAD6-4841-9F80-773A95A2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4D83-19B3-4FD7-9BAA-69DFF262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D1EB2-819F-4730-BA82-1F81FCDD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609C8-0FE2-46B9-832F-CE025195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2FCC2-D50D-431D-AA0C-EC06D35B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E2DF5-8978-4BE5-9F98-8945AD28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524D1-085A-4048-A177-48869C96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B0027-208D-44A3-9AE8-16B9F317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6F712-6D63-4756-9D0F-730F05F9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6C0A3-CE76-4E1D-9660-018565C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DB8-DDAA-4798-8862-646FF65A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027BF-DAA1-4E29-817B-BEE656C5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CBC2F-81E9-43D6-A386-F754C293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A3619-B059-4B48-9891-E2ED8728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64FB3-F88E-4328-9F8E-74A4FDD6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1B7A7-A65D-4EF8-8EFE-B6E10D55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38B-C133-4FE4-9E39-145AB32C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3B6F-56BF-4080-94CF-BAF1357FE3C5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E78F-3B8D-40D1-B14D-E987A17457C4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B9E7-A3C2-4666-BE2B-A97CF6855204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4A29-F23B-437E-ABD7-0BB014D481B3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4472-6CDF-420E-A743-F846AA735305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2A1C-D020-448B-A060-2F27C5F8E19C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9C95-71BD-4CE8-8249-437DA2529E87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4200" y="585792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  <a:ea typeface="Calibri"/>
              </a:rPr>
              <a:t>  </a:t>
            </a:r>
            <a:r>
              <a:rPr b="0" i="1" lang="ru-RU" sz="1600" spc="-1" strike="noStrike">
                <a:solidFill>
                  <a:srgbClr val="06436b"/>
                </a:solidFill>
                <a:latin typeface="Arial"/>
                <a:ea typeface="Calibri"/>
              </a:rPr>
              <a:t>Учитель-логопед МКДОУ д/с № 15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6436b"/>
                </a:solidFill>
                <a:latin typeface="Arial"/>
                <a:ea typeface="Calibri"/>
              </a:rPr>
              <a:t>Е.В.Хмель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57160" y="1714680"/>
            <a:ext cx="7540560" cy="2714400"/>
          </a:xfrm>
          <a:prstGeom prst="rect">
            <a:avLst/>
          </a:prstGeom>
          <a:solidFill>
            <a:srgbClr val="f9f7f5"/>
          </a:solidFill>
          <a:ln w="28440">
            <a:solidFill>
              <a:srgbClr val="ade2f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ts val="4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Calibri"/>
              </a:rPr>
              <a:t>«Игры и упражнения для дошкольников на развитие межполушарных связей» 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32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200" spc="-1" strike="noStrike">
                <a:solidFill>
                  <a:srgbClr val="052e65"/>
                </a:solidFill>
                <a:latin typeface="Candara"/>
              </a:rPr>
              <a:t>- Упражнения проводятся утром. </a:t>
            </a:r>
            <a:br>
              <a:rPr sz="2200"/>
            </a:br>
            <a:r>
              <a:rPr b="0" lang="ru-RU" sz="2200" spc="-1" strike="noStrike">
                <a:solidFill>
                  <a:srgbClr val="052e65"/>
                </a:solidFill>
                <a:latin typeface="Candara"/>
              </a:rPr>
              <a:t>- Упражнения проводятся ежедневно. </a:t>
            </a:r>
            <a:br>
              <a:rPr sz="2200"/>
            </a:br>
            <a:r>
              <a:rPr b="0" lang="ru-RU" sz="2200" spc="-1" strike="noStrike">
                <a:solidFill>
                  <a:srgbClr val="052e65"/>
                </a:solidFill>
                <a:latin typeface="Candara"/>
              </a:rPr>
              <a:t>- Упражнения проводятся в доброжелательной обстановке. </a:t>
            </a:r>
            <a:br>
              <a:rPr sz="2200"/>
            </a:br>
            <a:r>
              <a:rPr b="0" lang="ru-RU" sz="2200" spc="-1" strike="noStrike">
                <a:solidFill>
                  <a:srgbClr val="052e65"/>
                </a:solidFill>
                <a:latin typeface="Candara"/>
              </a:rPr>
              <a:t>- От детей требуется точное выполнение движений и приемов.</a:t>
            </a:r>
            <a:br>
              <a:rPr sz="2200"/>
            </a:br>
            <a:r>
              <a:rPr b="0" lang="ru-RU" sz="2200" spc="-1" strike="noStrike">
                <a:solidFill>
                  <a:srgbClr val="052e65"/>
                </a:solidFill>
                <a:latin typeface="Candara"/>
              </a:rPr>
              <a:t>- Упражнения проводятся стоя или сидя за столом.</a:t>
            </a:r>
            <a:br>
              <a:rPr sz="2200"/>
            </a:br>
            <a:br>
              <a:rPr sz="1800"/>
            </a:br>
            <a:br>
              <a:rPr sz="16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66920" y="1071720"/>
            <a:ext cx="6418080" cy="130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Candara"/>
              </a:rPr>
              <a:t>Условия проведения кинезеологических упражнений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90480" y="2071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- Комплексы кинезиологической гимнастики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точечный массаж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растяжки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дыхательные упражнения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глазодвигательные упражнения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 - телесные упражнения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упражнения для развития мелкой моторики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упражнения на релаксацию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массаж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28840" y="713880"/>
            <a:ext cx="641808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e65"/>
                </a:solidFill>
                <a:latin typeface="Arial Black"/>
              </a:rPr>
              <a:t>Методы и приемы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1. Мышечно-двигательного и координационного тренинга;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2. Развития воображения и ассоциативно образного мышления через вариативность методических пояснений и игровых услови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Пальчиковый игротренинг – один из видов с упражняющей функцией. 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Наряду с быстротой успешного освоения специальных знаний, умений и навыков(сенсомоторных качеств) у ребенка происходит развитие: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- эмоционального отношения к воспринимаемому материалу;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-  увлеченности и вовлеченности  в процесс деятельности;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 - свойств художественного мышления и творческого воображения;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 - способности к общению, установлению положительного эмоционального контакта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66920" y="428760"/>
            <a:ext cx="641808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Candara"/>
              </a:rPr>
              <a:t>Занятия и игры направлены на решение следующих учебно-методических задач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90480" y="1999800"/>
            <a:ext cx="77724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66920" y="-360"/>
            <a:ext cx="6418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Arial Black"/>
              </a:rPr>
              <a:t>Кинезиологические упражнения, развивающие межполушарное взаимодействи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Candara"/>
              </a:rPr>
              <a:t>«Пальчики здороваются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1571760" y="2000160"/>
            <a:ext cx="2412720" cy="1447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1643040" y="3929040"/>
            <a:ext cx="2362320" cy="1511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3"/>
          <a:stretch/>
        </p:blipFill>
        <p:spPr>
          <a:xfrm>
            <a:off x="4786200" y="2000160"/>
            <a:ext cx="2324160" cy="1435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4"/>
          <a:stretch/>
        </p:blipFill>
        <p:spPr>
          <a:xfrm>
            <a:off x="4786200" y="3929040"/>
            <a:ext cx="236232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Зайчик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76440" y="2428920"/>
            <a:ext cx="38224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-й и 3-й пальцы выпрямлены и расположены в виде буквы У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-й, 4-й и 5-й  пальцы собраны в кула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4933800" y="1714680"/>
            <a:ext cx="3245040" cy="4411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Колечко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42600" y="2499840"/>
            <a:ext cx="38228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очередно как можно быстрее перебирайте пальцы рук, соединяя в кольцо с большим пальцем последовательно указательный, средний и т.д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роба выполняется в прямом (от указательного пальца к мизинцу) и в обратном (от мизинца к указательному пальцу) порядке. Вначале упражнение выполняется каждой рукой отдельно, затем вместе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4938840" y="1928880"/>
            <a:ext cx="3235320" cy="4197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Собери помпоны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витие межполушарных связей, счет, цвет и еще  много полезного можно отработать с помощью этой простой игр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5" name="Picture 2" descr="C:\Users\Admin\Desktop\Новая папка\20200524_163359.jpg"/>
          <p:cNvPicPr/>
          <p:nvPr/>
        </p:nvPicPr>
        <p:blipFill>
          <a:blip r:embed="rId1"/>
          <a:stretch/>
        </p:blipFill>
        <p:spPr>
          <a:xfrm>
            <a:off x="4645080" y="2970360"/>
            <a:ext cx="382248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Собери фрукты в корзину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76440" y="1714680"/>
            <a:ext cx="3822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ебенку предлагается одновременно двумя руками  «сорвать» яблоки и четко ведя по дорожке, отнести в корзин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714240" y="3643200"/>
            <a:ext cx="2143440" cy="3005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C:\Users\Admin\Desktop\Новая папка\20200524_163546.jpg"/>
          <p:cNvPicPr/>
          <p:nvPr/>
        </p:nvPicPr>
        <p:blipFill>
          <a:blip r:embed="rId2"/>
          <a:stretch/>
        </p:blipFill>
        <p:spPr>
          <a:xfrm>
            <a:off x="2714760" y="314316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8" descr="C:\Users\Admin\AppData\Local\Microsoft\Windows\Temporary Internet Files\Content.Word\20200524_163604.jpg"/>
          <p:cNvPicPr/>
          <p:nvPr/>
        </p:nvPicPr>
        <p:blipFill>
          <a:blip r:embed="rId3"/>
          <a:stretch/>
        </p:blipFill>
        <p:spPr>
          <a:xfrm>
            <a:off x="4643280" y="3714840"/>
            <a:ext cx="2143440" cy="293040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10" descr="C:\Users\Admin\AppData\Local\Microsoft\Windows\Temporary Internet Files\Content.Word\20200524_163651.jpg"/>
          <p:cNvPicPr/>
          <p:nvPr/>
        </p:nvPicPr>
        <p:blipFill>
          <a:blip r:embed="rId4"/>
          <a:stretch/>
        </p:blipFill>
        <p:spPr>
          <a:xfrm>
            <a:off x="6643800" y="3000240"/>
            <a:ext cx="2101680" cy="305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Рисование крышечками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13880" y="1856880"/>
            <a:ext cx="38228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Ребенок ведет (двумя пальчиками одновременно)  крышечки по нарисованной траектории к указанному месту( можно как сверху вниз, так и снизу вверх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4" name="Содержимое 4" descr="C:\Users\Admin\AppData\Local\Microsoft\Windows\Temporary Internet Files\Content.Word\20200525_075349.jpg"/>
          <p:cNvPicPr/>
          <p:nvPr/>
        </p:nvPicPr>
        <p:blipFill>
          <a:blip r:embed="rId1"/>
          <a:stretch/>
        </p:blipFill>
        <p:spPr>
          <a:xfrm>
            <a:off x="1071720" y="3286080"/>
            <a:ext cx="2178000" cy="31971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C:\Users\Admin\AppData\Local\Microsoft\Windows\Temporary Internet Files\Content.Word\20200525_075224.jpg"/>
          <p:cNvPicPr/>
          <p:nvPr/>
        </p:nvPicPr>
        <p:blipFill>
          <a:blip r:embed="rId2"/>
          <a:stretch/>
        </p:blipFill>
        <p:spPr>
          <a:xfrm>
            <a:off x="3429000" y="2928960"/>
            <a:ext cx="2214720" cy="3000240"/>
          </a:xfrm>
          <a:prstGeom prst="rect">
            <a:avLst/>
          </a:prstGeom>
          <a:ln w="0">
            <a:noFill/>
          </a:ln>
        </p:spPr>
      </p:pic>
      <p:pic>
        <p:nvPicPr>
          <p:cNvPr id="386" name="Содержимое 6" descr="C:\Users\Admin\AppData\Local\Microsoft\Windows\Temporary Internet Files\Content.Word\20200525_075416.jpg"/>
          <p:cNvPicPr/>
          <p:nvPr/>
        </p:nvPicPr>
        <p:blipFill>
          <a:blip r:embed="rId3"/>
          <a:stretch/>
        </p:blipFill>
        <p:spPr>
          <a:xfrm>
            <a:off x="5929200" y="3286080"/>
            <a:ext cx="2357640" cy="3160800"/>
          </a:xfrm>
          <a:prstGeom prst="rect">
            <a:avLst/>
          </a:prstGeom>
          <a:ln w="0">
            <a:noFill/>
          </a:ln>
        </p:spPr>
      </p:pic>
      <p:pic>
        <p:nvPicPr>
          <p:cNvPr id="387" name="Содержимое 4" descr="C:\Users\Admin\AppData\Local\Microsoft\Windows\Temporary Internet Files\Content.Word\20200525_075349.jpg"/>
          <p:cNvPicPr/>
          <p:nvPr/>
        </p:nvPicPr>
        <p:blipFill>
          <a:blip r:embed="rId4"/>
          <a:stretch/>
        </p:blipFill>
        <p:spPr>
          <a:xfrm>
            <a:off x="1071720" y="3286080"/>
            <a:ext cx="2178000" cy="3197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Говорящие ручки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76440" y="1500120"/>
            <a:ext cx="3822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восприятия поз пальцев рук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учить повторять позы и движения по карточкам, по подражанию, по словесной инструкции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Для детей постарше, запомнить цепочку поз и повторить по памяти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Каждая цепочка повторяется 3-4 раза с проговариванием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0" name="Рисунок 5" descr="C:\Users\Admin\Desktop\Новая папка\20200524_163847.jpg"/>
          <p:cNvPicPr/>
          <p:nvPr/>
        </p:nvPicPr>
        <p:blipFill>
          <a:blip r:embed="rId1"/>
          <a:stretch/>
        </p:blipFill>
        <p:spPr>
          <a:xfrm>
            <a:off x="1071720" y="407196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391" name="Содержимое 6" descr="C:\Users\Admin\Desktop\Новая папка\20200524_163906.jpg"/>
          <p:cNvPicPr/>
          <p:nvPr/>
        </p:nvPicPr>
        <p:blipFill>
          <a:blip r:embed="rId2"/>
          <a:stretch/>
        </p:blipFill>
        <p:spPr>
          <a:xfrm>
            <a:off x="5000760" y="1643040"/>
            <a:ext cx="3252600" cy="21384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7" descr="C:\Users\Admin\Desktop\Новая папка\20200524_163922.jpg"/>
          <p:cNvPicPr/>
          <p:nvPr/>
        </p:nvPicPr>
        <p:blipFill>
          <a:blip r:embed="rId3"/>
          <a:stretch/>
        </p:blipFill>
        <p:spPr>
          <a:xfrm>
            <a:off x="5072040" y="407196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«Из всех наслаждений, отпущенных человеку, самое изысканное – шевелить мозгами»</a:t>
            </a:r>
            <a:br>
              <a:rPr sz="2800"/>
            </a:b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Борис Акунин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5" descr="http://karapysik.ru/wp-content/uploads/2013/09/1083036398.jpg"/>
          <p:cNvPicPr/>
          <p:nvPr/>
        </p:nvPicPr>
        <p:blipFill>
          <a:blip r:embed="rId1"/>
          <a:stretch/>
        </p:blipFill>
        <p:spPr>
          <a:xfrm>
            <a:off x="2071800" y="2500200"/>
            <a:ext cx="52387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Говорящие чистоговорки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Игра с тактильным сопровождением и нейроподходом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Рекомендовано использовать на области кругов – пластилин. Нажимая на него, у ребенка усиливаются тактильные ощущения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Сначала вместе с педагогом проговариваем, затем ребенок самостоятельно проговаривает чистоговоркус опорой на картинку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5" name="Picture 2" descr="C:\Users\Admin\Desktop\Новая папка\20200524_164011.jpg"/>
          <p:cNvPicPr/>
          <p:nvPr/>
        </p:nvPicPr>
        <p:blipFill>
          <a:blip r:embed="rId1"/>
          <a:stretch/>
        </p:blipFill>
        <p:spPr>
          <a:xfrm>
            <a:off x="4645080" y="2970360"/>
            <a:ext cx="382248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Зеркальное рисование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76440" y="2214360"/>
            <a:ext cx="38224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вуручные упражн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ебенку предлагается двумя руками одновременно обвести контур фигур, изображенных с правой и левой стороны листа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3889440" y="2571840"/>
            <a:ext cx="4889520" cy="3357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Обязательное условие – передача положительных эмоций. При индивидуальной оценке нужно отметить активность, удачу, пусть даже маленькую, или просто хорошее настроение ребенка. А реакция на неудачи должна быть с надеждой на успех в последующих занятиях, с убеждением, что отчаиваться не стоит. Если активно работать, все получится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Важно закончить занятие так, чтобы дети ждали следующей встречи с вами. Но главное, о чем необходимо помнить, - занятие от начала до конца должно быть добрым!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В конце занятия подводятся итоги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428920"/>
            <a:ext cx="7408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В. Буденая. Логопедическая гимнастика. Методическое пособие. Санкт-Петербург: «Детство-Пресс», 2001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В.Безруких. Леворукий ребенок в школе и дома. Екатеренбург, 2001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. Г. Визель. Мозг и феномены человеческой психики.-М., 1992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.Ю. Картушина. Логоритмические занятия в детском саду. М.: Сфера, 2003г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. В. Коноваленко. Развитие познавательной деятельности у детей от 10 до 14 лет. Москва, 1999 г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Е .А. Пожиленко. Волшебный мир звуков и слов. М.: Владос, 2001 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. С. Жукова, Е. В. Мастюкова, Т .Б. Филичева. Логопедия. Екатеренбург 2001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.Г. Парамонова. Как подготовить ребенка к школе. Изд. Дельта, 1997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.А.Поваляева. Справочник логопеда. Ростов-на-Дону.2001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.Л. Сиротюк. Коррекция развития интеллекта дошкольника. М, 2002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-1440" y="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052e65"/>
                </a:solidFill>
                <a:latin typeface="Arial"/>
                <a:ea typeface="Arial"/>
              </a:rPr>
              <a:t>СПАСИБО ЗА ВНИМАНИЕ!</a:t>
            </a: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5" name="Picture 2" descr="C:\Users\Библиомедиацентр\Desktop\временная папка\Рисунок1.jpg"/>
          <p:cNvPicPr/>
          <p:nvPr/>
        </p:nvPicPr>
        <p:blipFill>
          <a:blip r:embed="rId1"/>
          <a:stretch/>
        </p:blipFill>
        <p:spPr>
          <a:xfrm>
            <a:off x="2214720" y="3929040"/>
            <a:ext cx="4857480" cy="2573280"/>
          </a:xfrm>
          <a:prstGeom prst="rect">
            <a:avLst/>
          </a:prstGeom>
          <a:ln w="19080">
            <a:solidFill>
              <a:srgbClr val="052e65"/>
            </a:solidFill>
            <a:miter/>
          </a:ln>
        </p:spPr>
      </p:pic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1857240"/>
            <a:ext cx="7408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витие и гармонизация нервной системы ребенка, в целом, и деятельность мозговых структу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229600" cy="16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Arial Black"/>
                <a:ea typeface="Aharoni"/>
              </a:rPr>
              <a:t>Актуальность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6440" y="1714680"/>
            <a:ext cx="3822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овременные кинезиологические методики, в том числе американская гимнастика мозга Брэйн Джим, направлены на активизацию различных отделов коры головного мозга (больших полушарий), что позволяет развивать способности человека или корректировать проблемы в различных областях психики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5000760" y="1785960"/>
            <a:ext cx="341604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Arial Black"/>
              </a:rPr>
              <a:t>Цель:</a:t>
            </a:r>
            <a:r>
              <a:rPr b="0" lang="ru-RU" sz="2400" spc="-1" strike="noStrike">
                <a:solidFill>
                  <a:srgbClr val="031f43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31f43"/>
                </a:solidFill>
                <a:latin typeface="Candara"/>
              </a:rPr>
              <a:t>развитие межполушарного взаимодействия, способствующее активизации мыслительной </a:t>
            </a:r>
            <a:br>
              <a:rPr sz="2400"/>
            </a:br>
            <a:r>
              <a:rPr b="0" lang="ru-RU" sz="2400" spc="-1" strike="noStrike">
                <a:solidFill>
                  <a:srgbClr val="031f43"/>
                </a:solidFill>
                <a:latin typeface="Candara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76440" y="1785960"/>
            <a:ext cx="3822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Задач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межполушарной специализаци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межполушарного взаимодействия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межполушарных связе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Синхронизация работы полушари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мелкой моторик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способносте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памяти, внимания;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реч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мышления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Устранение дислекси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4749840" y="2214720"/>
            <a:ext cx="3537000" cy="428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Candara"/>
              </a:rPr>
              <a:t>Полушария мозга имеют разную функциональную специализацию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143680" cy="491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1785960"/>
            <a:ext cx="7408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логическое – аналитическое мышлени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Анализирует факты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брабатывает информацию последовательно  по этапам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беспечивает интересы индуктивного мышления (вначале осуществляется процесс анализа, а затем синтеза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брабатывает вербальную информацию: отвечает за языковые способности, контролирует речь, а также способности к чтению и письму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Запоминает стихотворные строки, факты, имена, даты и их написани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Понимает буквальный смысл только того,  слышим или читаем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Планирует будуще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Контролирует движение правой половины тел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музыкальное образование, понимание смысла музыкальных произведений. Различение ритма музык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математические способности, рабату с числами, формулами, таблицам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планировани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Arial Black"/>
              </a:rPr>
              <a:t>Левое полушар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1356840"/>
            <a:ext cx="7408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образное мышление, пространственную ориентацию; позволяет ориентироваться на местности и составлять мозаичные картинки-головоломк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интуицию и интуитивную оценку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Может одновременно обрабатывать много разнообразной информации; способно рассматривать проблему в целом, не применяя анализа (параллельная обработка информации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реализует процессы дедуктивного мышления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брабатывает невербальную информацию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Запоминает образы, лица, картины, позы, голос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Способно понимать метафоры и результаты работы чужого воображения, чувство юмора. Воспринимает эмоциональную окраску речи, тембр, голоса, интонацию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риентируется в настоящем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Контролирует движения левой половины тел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воображение, фантазии и мечты; художественное творчество и способности к изобразительному искусству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эмоциональные реакци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Arial Black"/>
              </a:rPr>
              <a:t>Правое полушар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31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Кинезиология </a:t>
            </a:r>
            <a:r>
              <a:rPr b="0" lang="ru-RU" sz="2400" spc="-1" strike="noStrike">
                <a:solidFill>
                  <a:srgbClr val="052e65"/>
                </a:solidFill>
                <a:latin typeface="Candara"/>
              </a:rPr>
              <a:t>– наука о развитии умственных способностей и физического здоровья через определенные двигательные упражнения.</a:t>
            </a:r>
            <a:br>
              <a:rPr sz="2400"/>
            </a:br>
            <a:r>
              <a:rPr b="0" lang="ru-RU" sz="2400" spc="-1" strike="noStrike">
                <a:solidFill>
                  <a:srgbClr val="052e65"/>
                </a:solidFill>
                <a:latin typeface="Candara"/>
              </a:rPr>
              <a:t>«Кинезиология» (греческое слово),</a:t>
            </a:r>
            <a:br>
              <a:rPr sz="2400"/>
            </a:br>
            <a:r>
              <a:rPr b="0" lang="ru-RU" sz="2400" spc="-1" strike="noStrike">
                <a:solidFill>
                  <a:srgbClr val="052e65"/>
                </a:solidFill>
                <a:latin typeface="Candara"/>
              </a:rPr>
              <a:t>«кинезис» – движение,</a:t>
            </a:r>
            <a:br>
              <a:rPr sz="2400"/>
            </a:br>
            <a:r>
              <a:rPr b="0" lang="ru-RU" sz="2400" spc="-1" strike="noStrike">
                <a:solidFill>
                  <a:srgbClr val="052e65"/>
                </a:solidFill>
                <a:latin typeface="Candara"/>
              </a:rPr>
              <a:t>«логос» – наука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6920" y="928800"/>
            <a:ext cx="64180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e65"/>
                </a:solidFill>
                <a:latin typeface="Arial Black"/>
              </a:rPr>
              <a:t>Что такое кинезиология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5:34:29Z</dcterms:created>
  <dc:creator>Библиомедиацентр</dc:creator>
  <dc:description/>
  <dc:language>en-US</dc:language>
  <cp:lastModifiedBy>Admin</cp:lastModifiedBy>
  <cp:lastPrinted>2012-06-26T12:35:24Z</cp:lastPrinted>
  <dcterms:modified xsi:type="dcterms:W3CDTF">2020-05-25T16:13:55Z</dcterms:modified>
  <cp:revision>284</cp:revision>
  <dc:subject/>
  <dc:title>Итоги аттестации педагогических работников системы образования в 2011-2012 учебном году и задачи на 2012-2013 учебный год</dc:title>
</cp:coreProperties>
</file>